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9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030AC-EF2C-4267-930F-78B88215E7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A7402-DD6A-470F-8602-0AC191A97D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99F6C-F965-41B2-BE48-EFF1D6419E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445D0-A8B3-48A0-998A-0E2FCD70A8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B7045-1E29-41E1-8B94-BE4F24570D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56117-4303-4A17-ACA5-8D39A2407F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F1B66-8DEA-4B36-BCAC-F14D36F71C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BCA73-2E77-413A-A0FB-110BAEEB3E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73BA5-FA2F-46CC-B9B5-5A0698625F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82D30-3BA0-4F89-BCC9-C654216E0C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3371D-3704-4D76-8AEA-A708716A21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79815-F07D-4B81-87C2-21C24E92F1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BD93-D8A5-4400-BC66-FA10D99D8FC3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ventures in Mig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ttyann Johnsen, MetLif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stallation of Multiple Fixpack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difference between CSDs, Fixpacks, APARs and PTFs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used to installing…it builds confide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29040" y="3687840"/>
            <a:ext cx="2369880" cy="18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F91DD-2832-4621-8547-BA4A4D50DD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ocumentation for End Use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47240" y="2955600"/>
            <a:ext cx="73486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share drive for end users/site support to access software, Fixpack's and man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installation instructions specific to Met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DI 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2 Connect v8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ng multiple systems within WDI 3.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602320" y="668160"/>
            <a:ext cx="2566800" cy="231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7313F-CCFB-4DFE-AF19-EBEDE959FE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040" y="545760"/>
            <a:ext cx="5770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etLife Client-Server Configu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0200" y="3070080"/>
            <a:ext cx="1720800" cy="5954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DI 3.2 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21160" y="3097080"/>
            <a:ext cx="1549440" cy="5828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2Conn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/>
          <p:nvPr/>
        </p:nvCxnSpPr>
        <p:spPr>
          <a:xfrm>
            <a:off x="2606400" y="3373200"/>
            <a:ext cx="72756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4" name=""/>
          <p:cNvCxnSpPr>
            <a:stCxn id="161" idx="3"/>
            <a:endCxn id="162" idx="1"/>
          </p:cNvCxnSpPr>
          <p:nvPr/>
        </p:nvCxnSpPr>
        <p:spPr>
          <a:xfrm>
            <a:off x="2440080" y="3368520"/>
            <a:ext cx="1062720" cy="21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5" name=""/>
          <p:cNvCxnSpPr>
            <a:stCxn id="166" idx="0"/>
            <a:endCxn id="166" idx="1"/>
          </p:cNvCxnSpPr>
          <p:nvPr/>
        </p:nvCxnSpPr>
        <p:spPr>
          <a:xfrm flipH="1">
            <a:off x="2466360" y="3379320"/>
            <a:ext cx="10134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7" name=""/>
          <p:cNvCxnSpPr>
            <a:stCxn id="166" idx="2"/>
            <a:endCxn id="166" idx="3"/>
          </p:cNvCxnSpPr>
          <p:nvPr/>
        </p:nvCxnSpPr>
        <p:spPr>
          <a:xfrm flipH="1">
            <a:off x="2466360" y="3379320"/>
            <a:ext cx="10134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2486160" y="3230640"/>
            <a:ext cx="974520" cy="298440"/>
          </a:xfrm>
          <a:prstGeom prst="leftRightArrow">
            <a:avLst>
              <a:gd name="adj1" fmla="val 50000"/>
              <a:gd name="adj2" fmla="val 65005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8440" y="272736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1960" y="4630680"/>
            <a:ext cx="1084320" cy="701640"/>
          </a:xfrm>
          <a:prstGeom prst="flowChartMagneticDisk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35160" y="3703680"/>
            <a:ext cx="284040" cy="887400"/>
          </a:xfrm>
          <a:prstGeom prst="upDownArrow">
            <a:avLst>
              <a:gd name="adj1" fmla="val 50000"/>
              <a:gd name="adj2" fmla="val 62195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43480" y="1096920"/>
            <a:ext cx="2394000" cy="4578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29400" y="1535040"/>
            <a:ext cx="1600200" cy="12956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Sphe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57720" y="3271680"/>
            <a:ext cx="820800" cy="141480"/>
          </a:xfrm>
          <a:prstGeom prst="leftRightArrow">
            <a:avLst>
              <a:gd name="adj1" fmla="val 50000"/>
              <a:gd name="adj2" fmla="val 115493"/>
            </a:avLst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69000" y="27385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1000" y="4033800"/>
            <a:ext cx="14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291080" y="3047760"/>
            <a:ext cx="1222200" cy="55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66000"/>
          </a:bodyPr>
          <a:p>
            <a:pPr marL="150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ach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91480" y="2884320"/>
            <a:ext cx="225360" cy="965520"/>
          </a:xfrm>
          <a:prstGeom prst="upDownArrow">
            <a:avLst>
              <a:gd name="adj1" fmla="val 50000"/>
              <a:gd name="adj2" fmla="val 8529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91480" y="3890880"/>
            <a:ext cx="1203120" cy="1017720"/>
          </a:xfrm>
          <a:prstGeom prst="flowChartMagneticDisk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08600" y="4986360"/>
            <a:ext cx="22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stem data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45280" y="727200"/>
            <a:ext cx="9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z/OS 1.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9880" y="5357880"/>
            <a:ext cx="226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fig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38984-3DD7-465B-8FCC-37165ECD55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ssess Your Dat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9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ed end user review of individua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migrate data objects currently 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862520" y="2298600"/>
            <a:ext cx="359892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F0B21-389F-421A-8763-3D1F5C80DA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on WDI 3.2 Pitfall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70000" y="1326960"/>
            <a:ext cx="467028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/migration job is leng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 to run job multiple times in lab environment due to “loose end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experience for test and productio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nvert the standards in use prior to X12 4.1 - otherwise use client format download from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22360" y="1550880"/>
            <a:ext cx="2262240" cy="390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A3E8E-799B-413A-85B6-F7995D3B7F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rvival is Key!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e best laid plans can fai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 is 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with the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485040" y="1805040"/>
            <a:ext cx="1915920" cy="286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9D714-0C71-4DBD-A511-0B3208FA20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rovide Support As Need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12400" y="2095200"/>
            <a:ext cx="7162920" cy="35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data validation in WDI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aps were converted but did not compile clea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d through missing mandatory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users required to make changes in two test systems for the time being - to keep systems in sy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 3.1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DI 3.2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386320" y="579600"/>
            <a:ext cx="2973600" cy="191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F6619-34F2-4C00-A9A0-4C70BA8CBA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9040" y="2292120"/>
            <a:ext cx="734868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survived!  So far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environment exists for system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users have a stable test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 testing conti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/migration job for production should be a breez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575320" y="779400"/>
            <a:ext cx="2624040" cy="228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695A4-3A9A-49E9-88FE-57DBCE709F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dventures in Mig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52560" y="3112560"/>
            <a:ext cx="3300480" cy="25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johnsen@metlif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209760" y="3706920"/>
            <a:ext cx="2124360" cy="49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06336-5EDE-4D9F-99CF-FC36A89287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1 U.S. Life Insurer  -  $2.5 trillion of life insurance in-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st non-medical health provider of institutional employee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7 million lives under group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ked #1 in most group product areas - life, auto and homeowners, and long-term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115000"/>
              </a:lnSpc>
              <a:spcBef>
                <a:spcPts val="1001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.S. - 13 million househo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115000"/>
              </a:lnSpc>
              <a:spcBef>
                <a:spcPts val="1001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tional - 8 million customers in 11 lo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ed on NYSE - April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Life is in 1 out of every 5 households in the U.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182760" y="811080"/>
            <a:ext cx="212436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19C02-E62E-463F-B5E8-1C51E0C426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and Services offered by MetLife and its affiliate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rance (Life, Long-Term Care, Disability, Dental, Auto &amp; Homeown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bank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182760" y="851040"/>
            <a:ext cx="2124360" cy="49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2DFA3-8CF2-4886-907A-E2184984FF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y Objectives for the WDI 3.2 Migration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imately, to survive yet another migr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Lab environment for system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table test and production environments for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existing data objects to WDI 3.2 for immediate use by end user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C1CF7-385F-4A12-A078-0F39C01D86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Know Your Environ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82640" y="1652760"/>
            <a:ext cx="3160800" cy="32623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25840" y="1420560"/>
            <a:ext cx="510552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upgra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OS 12/31/04 - No other reason need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-to-any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we started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3.1 on z/OS 1.2 - Host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onnect v7.2 for Cl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- however, not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we are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3.2 on z/OS 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onnect v8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62B67-6C62-4ECA-A983-5BCE4FDCC1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eate a Migration Pla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01800" y="1870200"/>
            <a:ext cx="455112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VS upgrade to z/OS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2 Connect upgrade to v8.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of all current   RSU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ation of multiple Fixp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 for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26200" y="1825560"/>
            <a:ext cx="3413160" cy="308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7C1B3-9D3D-4158-BFEE-A43E513AB6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VS upgrade to z/OS 1.4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2664000"/>
            <a:ext cx="734868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is everyth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WDI 3.2 on Lab environment and then   re-ipl’d operating system between z/OS 1.2 and z/OS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, test and then test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91000" y="789120"/>
            <a:ext cx="2067120" cy="21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198E7-8626-440E-8B17-8C21B052D7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iddleware:  Upgrade to DB2 Connect Version 8.1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06040" y="2953800"/>
            <a:ext cx="7348680" cy="31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ning on dedicated LPAR IBM P690 Regatta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ing pairs of servers configured for test and pro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server onsite with secondary server failover off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Site Selector used for automated geographic failover for outages on primary server - greater “up”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time updating to the host in client-server mode via ODBC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l for multi-user environment with concurrent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05240" y="1217520"/>
            <a:ext cx="387324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F7D91-6BE1-4CD4-A00A-5BD4C30AFC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pplication of RSU Maintenan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82640" y="1498680"/>
            <a:ext cx="414648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! Do not neglect regular maintenance while completing the installation and migration to a new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maintenance across operating systems, DB2 sub-systems and LPAR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9240" y="1542960"/>
            <a:ext cx="345312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6AEA5-9C64-4B77-BE4A-2BF9075EC7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4-07-30T12:21:29Z</cp:lastPrinted>
  <dcterms:modified xsi:type="dcterms:W3CDTF">2004-08-04T16:57:28Z</dcterms:modified>
  <cp:revision>934</cp:revision>
  <dc:subject/>
  <dc:title>IBM Software Group</dc:title>
</cp:coreProperties>
</file>