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16770-5957-47CF-A9A8-3469A33EF5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064C5-D306-4A68-95EC-C5EBF46C3A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C6EBF1-8761-41BE-BA94-017189932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83DDEA-F073-47AA-9738-D29C530027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BCA5F-07B5-49A1-9DC4-B5D740E7B7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632E1-8CF2-4611-86F9-65C2557FB9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63C150-609D-4C5A-94DA-389D0C8D7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DC89B5-4980-4BCE-9F4D-3C8DE1F880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A0F5A-C70C-4AE3-B6D6-DBAD456B1E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1B92E-1A79-4C32-B976-F944CC888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26CDE-AD68-4CAC-862E-0078D97F9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65C79-3769-4C9F-9A69-2EDB633D6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1648E7-E897-4B78-9C3E-AE52235324F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1998-12-04T22:13:23Z</dcterms:modified>
  <cp:revision>0</cp:revision>
  <dc:subject/>
  <dc:title>PowerPoint Presentation</dc:title>
</cp:coreProperties>
</file>